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F8D9-F6FE-4D97-BFD8-59DA45B4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9268-DD93-4F36-B7A2-6CF894AD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E04-F98E-4D06-A0F1-116BEBC0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548-6779-4275-AEDB-F920AE88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F539-B852-42ED-AF3A-D24F0A70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2BF7-0A0B-4B6D-BAF2-72BD2C48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2F28-9F03-47D8-ABBF-B0E01346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92C7-2D4D-4AC0-A59F-4381B8DA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D7A8-A3D5-409F-BC4F-E01FFD79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67DC-28DA-40E6-AA4B-B5289302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DFE8-9E89-4D14-A09B-994ABBB5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0F0-ED8B-4C23-97C7-6639D968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0E83-A298-4433-968B-D649D62E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A062-B336-4098-9BBC-6CB340B8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19D9-DA53-4383-93D4-64DBE754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9667-298A-41B2-A4E6-3ADA35B2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2CF8-C4E1-4AE3-B20E-32767A7E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FF840-FACA-4550-AB23-8BF203E3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E3099-5B6D-487F-A659-33D4F1E2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5A96A-5666-4984-8315-D97BBD30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C836D-8460-4947-AFA7-28456078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85381-FBBF-4837-94DA-FFB74D4A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95D2-5676-4147-984D-553395FF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FC5DB-B0CC-4178-ADD5-D11846B4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534C1-8816-4A61-83B7-86196854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FD2DF-81ED-4948-99BF-04C91856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184B-8E09-484F-B0AC-BD62EBA1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FD902-E08C-4D8F-8A11-5B096B58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6D496-E5EE-4955-9CF8-FBECD9EF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DF061-C13F-44E5-9E4A-0B734A68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4874D-BEEF-4C94-B7F6-C92DF2D4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AC0FD-7626-4144-B8CB-A5966C61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ADB68-CD25-4FF6-8689-A4187653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107A-236F-4B23-B233-D3C6BE92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C13E1-4CD5-4D17-82AE-33E777FB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607A5-C5C7-4E6B-9CD5-0624A269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3E6B3-7583-4038-9A59-C4759D12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80B02-7637-48E7-B3CD-42865FF0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957AC-876C-4B1E-8250-9E0BFFA1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F2843-5328-44C0-A245-7821145D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7A848-0319-4F88-B3A7-7EB774F3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11863-794E-44BA-A646-7E985AB0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8A58D-CFFC-4D9E-B778-F1842EBF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1C5FD-3D39-4D16-97DC-5AE3A24E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795-8D44-4073-A1BB-EAEA2DCF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F3ABE-3E21-408E-B51E-5486C512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0395A-AD6B-4E3D-B80A-8EDCB296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222B5-E6A2-4A81-948E-C662668D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97949-6D12-470C-AE10-5A33171C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2DB37-E9D5-4A65-AC78-62F36415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95A2D-E43F-4887-A9BE-A1AEC7B1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F3EC0-A626-4F29-B5D5-301978E6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EAC71-30DC-4EA9-8AD0-FAA00650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AAFC9-965F-4B54-B5E6-7CFCC8BE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8374E-B53E-4630-B3F8-F2EBF8BF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1CF8-90DC-46D6-AD8D-6FC4E36C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45044-C647-4483-931F-D93B17E1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BFB4-1019-4698-9D9A-47A83CBA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D68B-FA08-4AB9-A2A9-B4ABC930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5C9-1A30-4FE9-9492-729B241D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1A40-8F3A-40B1-A32D-CE00041AA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0FD2-1C5E-41FD-B015-DCAF476147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0966-A49A-47FC-B160-2D7A1972F2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CBD1-5993-4F16-BDA1-D9D4D7876B91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817D-785F-4504-AFB8-FF7747553043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8600" y="228600"/>
            <a:ext cx="8610480" cy="45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I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How did the Conquistadors conquer the Aztecs &amp; Inc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 N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omplete document #1 on the hand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agine you see a spaceship land in front of your house and a Martian steps out.  What do you think?  How do you feel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565440" cy="5943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876920" y="762120"/>
            <a:ext cx="38480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657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2900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773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6103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3200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NOTE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7621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RANCISCO PIZARRO CONQUERS THE IN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1532)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752480"/>
            <a:ext cx="61722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ed Native American 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tur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ltahualp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nca Emperor) after slaughtering thousands of his fol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nish demanded a huge ransom for the 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as paid it in gold, but Altahualpa was killed any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ite resistance, Spanish gained control of much of South America including Peru, Ecuador &amp;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248520" y="3219480"/>
            <a:ext cx="28954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04920" y="1050840"/>
            <a:ext cx="86104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09480" y="457200"/>
            <a:ext cx="8001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W DID EACH OF THE FOLLOWING LEAD TO EUROPEAN INFLUENCE AND DOMINATION IN THE WORLD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UNS: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r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E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133720" y="44197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133720" y="1600200"/>
            <a:ext cx="16761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36720" y="1143000"/>
            <a:ext cx="4857480" cy="5105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032440" y="533520"/>
            <a:ext cx="2971800" cy="1981080"/>
          </a:xfrm>
          <a:prstGeom prst="wedgeRoundRectCallout">
            <a:avLst>
              <a:gd name="adj1" fmla="val -48879"/>
              <a:gd name="adj2" fmla="val 73879"/>
              <a:gd name="adj3" fmla="val 16667"/>
            </a:avLst>
          </a:prstGeom>
          <a:solidFill>
            <a:srgbClr val="99cc00"/>
          </a:solid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08400" y="914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howcard Gothic"/>
              </a:rPr>
              <a:t>Take me to your leade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251400" y="3657600"/>
            <a:ext cx="2664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20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8600" y="0"/>
            <a:ext cx="8915400" cy="67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"/>
              </a:rPr>
              <a:t>The Conquistado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dvantages for the Aztecs/Inc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amiliarity with geograph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reater food suppl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arger number of soldier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Rely on citizens 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produce food, train soldiers, make weapo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dvantages for Spa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uperior technology &amp; equip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orses, guns &amp; armo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lliances with conquered peop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ad a common enem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elped fight with the Spanish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isease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smallpox brought to South Americ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99ff"/>
                </a:solidFill>
                <a:latin typeface="Arial"/>
              </a:rPr>
              <a:t>Hernando Cor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nquered the Aztecs – 151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99ff"/>
                </a:solidFill>
                <a:latin typeface="Arial"/>
              </a:rPr>
              <a:t>Moctezuma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Aztec leader who was kill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otives </a:t>
            </a:r>
            <a:r>
              <a:rPr b="0" lang="en-US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religion &amp; wealt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99ff"/>
                </a:solidFill>
                <a:latin typeface="Arial"/>
              </a:rPr>
              <a:t>Francisco Pizarr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nquered the Incas – 153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aptured Incan Emperor</a:t>
            </a:r>
            <a:r>
              <a:rPr b="0" lang="en-US" sz="1900" spc="-1" strike="noStrike">
                <a:solidFill>
                  <a:srgbClr val="6699ff"/>
                </a:solidFill>
                <a:latin typeface="Arial"/>
              </a:rPr>
              <a:t> Athualpa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Incas collapsed with no strong lead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pain takes Inca gol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0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0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0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0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0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410080" y="2133720"/>
            <a:ext cx="2619360" cy="2654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066680" y="762120"/>
            <a:ext cx="3057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90920" y="685800"/>
            <a:ext cx="4324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09680" y="6033960"/>
            <a:ext cx="304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4f00"/>
                </a:solidFill>
                <a:latin typeface="BlackChancery"/>
              </a:rPr>
              <a:t>Fernando Co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Hernán Cortés"/>
          <p:cNvPicPr/>
          <p:nvPr/>
        </p:nvPicPr>
        <p:blipFill>
          <a:blip r:embed="rId1"/>
          <a:stretch/>
        </p:blipFill>
        <p:spPr>
          <a:xfrm>
            <a:off x="2201760" y="1538280"/>
            <a:ext cx="2979720" cy="4267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15" name="" descr="Portrait of an Aztec King"/>
          <p:cNvPicPr/>
          <p:nvPr/>
        </p:nvPicPr>
        <p:blipFill>
          <a:blip r:embed="rId2"/>
          <a:stretch/>
        </p:blipFill>
        <p:spPr>
          <a:xfrm>
            <a:off x="6126120" y="1538280"/>
            <a:ext cx="2560680" cy="4267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1905120" y="76320"/>
            <a:ext cx="70866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lackChancery"/>
              </a:rPr>
              <a:t>The First Spanish Conquests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BlackChancery"/>
              </a:rPr>
              <a:t>The Azte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6033960"/>
            <a:ext cx="3048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4f00"/>
                </a:solidFill>
                <a:latin typeface="BlackChancery"/>
              </a:rPr>
              <a:t>Montezum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3352680"/>
            <a:ext cx="838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lackChancery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057400" y="152280"/>
            <a:ext cx="6858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lackChancery"/>
              </a:rPr>
              <a:t>The Death of Montezum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Spaniards Took Shelter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093760" y="1066680"/>
            <a:ext cx="2706840" cy="2895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21" name="" descr="Montezuma is Put in Chains"/>
          <p:cNvPicPr/>
          <p:nvPr/>
        </p:nvPicPr>
        <p:blipFill>
          <a:blip r:embed="rId2">
            <a:lum contrast="6000"/>
          </a:blip>
          <a:srcRect l="2551" t="2319" r="0" b="0"/>
          <a:stretch/>
        </p:blipFill>
        <p:spPr>
          <a:xfrm>
            <a:off x="3651120" y="3429000"/>
            <a:ext cx="2901960" cy="3200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22" name="" descr="The Death of Montezuma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443640" y="1219320"/>
            <a:ext cx="2395440" cy="3886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6172200" cy="4628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224" name=""/>
          <p:cNvSpPr/>
          <p:nvPr/>
        </p:nvSpPr>
        <p:spPr>
          <a:xfrm>
            <a:off x="1905120" y="228600"/>
            <a:ext cx="70866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lackChancery"/>
              </a:rPr>
              <a:t>Mexico Surrenders to Co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5638680"/>
            <a:ext cx="350532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24f00"/>
                </a:solidFill>
                <a:latin typeface="BlackChancery"/>
              </a:rPr>
              <a:t>Francisco </a:t>
            </a:r>
            <a:br>
              <a:rPr sz="3000"/>
            </a:br>
            <a:r>
              <a:rPr b="1" lang="en-US" sz="3000" spc="-1" strike="noStrike">
                <a:solidFill>
                  <a:srgbClr val="c24f00"/>
                </a:solidFill>
                <a:latin typeface="BlackChancery"/>
              </a:rPr>
              <a:t>Pizar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81080" y="289080"/>
            <a:ext cx="70866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lackChancery"/>
              </a:rPr>
              <a:t>The First Spanish Conquests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BlackChancery"/>
              </a:rPr>
              <a:t>                             The In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5638680"/>
            <a:ext cx="304776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24f00"/>
                </a:solidFill>
                <a:latin typeface="BlackChancery"/>
              </a:rPr>
              <a:t>Atahualp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3352680"/>
            <a:ext cx="838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lackChancery"/>
              </a:rPr>
              <a:t>v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400800" y="1790640"/>
            <a:ext cx="1925640" cy="3772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90920" y="1752480"/>
            <a:ext cx="1904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2:25:17Z</dcterms:created>
  <dc:creator>DOE</dc:creator>
  <dc:description/>
  <dc:language>en-US</dc:language>
  <cp:lastModifiedBy>NYCDOE</cp:lastModifiedBy>
  <dcterms:modified xsi:type="dcterms:W3CDTF">2009-10-21T10:19:40Z</dcterms:modified>
  <cp:revision>8</cp:revision>
  <dc:subject/>
  <dc:title>Slide 1</dc:title>
</cp:coreProperties>
</file>